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2D2-4C05-4BB6-8CE1-69925345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934-E382-4661-82C3-71DC3591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81B7-C6B2-472C-9925-9660E44A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A76-006A-423A-8ED0-721C6DE1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BBF5-509C-43B1-91B9-CA6C22B4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C038-9B65-4C96-8807-C36E81B2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E471-C4A6-4778-B53D-77DAE87A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9AB6-C343-4A8D-882B-7220287B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008D-938D-4B42-B77B-E84B2657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FD21-8E1F-46AB-9B66-88F50A13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B9C5-DB23-430C-8FC6-594EC9B4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B95-20E6-4AC1-882F-E3194CF0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08C8-133F-40C7-B759-BEB1F35B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8E9C-DAA2-4443-A66F-BE15A1A4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7D62-6BD4-40D6-9920-B1BCB7D4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AD7C-D78C-4342-9C07-7F838581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9621-5F07-41F9-804C-5093F8EE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F1CE-4D80-4938-A3C0-27D3A157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F1E5-1991-4FE7-BB1C-1D976254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09B1-2D78-413A-872B-9A72755D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EC44-DC77-434D-A08F-B4046D65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846-41F9-4937-AAE2-F9B751F6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A13-942D-474A-8963-E454DD72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D97-BD6D-480C-A6BC-26A3CF96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F9CD-F0F2-4CDF-8B82-CB227DA3B57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E80C-03FE-48AC-A711-301FE2E5885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yfaint Pris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1295280" y="3048120"/>
            <a:ext cx="1371600" cy="1981080"/>
          </a:xfrm>
          <a:prstGeom prst="can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4267080"/>
            <a:ext cx="1828800" cy="1676520"/>
          </a:xfrm>
          <a:prstGeom prst="cube">
            <a:avLst>
              <a:gd name="adj" fmla="val 25000"/>
            </a:avLst>
          </a:prstGeom>
          <a:solidFill>
            <a:srgbClr val="ff7c8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2362320"/>
            <a:ext cx="3962520" cy="1295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95280" y="6094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58c"/>
                </a:solidFill>
                <a:latin typeface="Tahoma"/>
              </a:rPr>
              <a:t>Beth yw Prism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198108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58c"/>
                </a:solidFill>
                <a:latin typeface="Tahoma"/>
              </a:rPr>
              <a:t>Prism yw unrhyw siap sydd a trawsdoriad unffurf </a:t>
            </a:r>
            <a:r>
              <a:rPr b="0" lang="en-GB" sz="3600" spc="-1" strike="noStrike">
                <a:solidFill>
                  <a:srgbClr val="ff7c80"/>
                </a:solidFill>
                <a:latin typeface="Tahoma"/>
              </a:rPr>
              <a:t>(uniform cross-section).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5907800">
            <a:off x="2666520" y="4266720"/>
            <a:ext cx="838440" cy="1295640"/>
          </a:xfrm>
          <a:prstGeom prst="can">
            <a:avLst>
              <a:gd name="adj" fmla="val 50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4120" y="3962520"/>
            <a:ext cx="1447560" cy="990360"/>
          </a:xfrm>
          <a:prstGeom prst="cube">
            <a:avLst>
              <a:gd name="adj" fmla="val 25000"/>
            </a:avLst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33520" y="6248520"/>
            <a:ext cx="4114800" cy="60948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33920" y="1828800"/>
            <a:ext cx="4647960" cy="685800"/>
          </a:xfrm>
          <a:prstGeom prst="rect">
            <a:avLst/>
          </a:prstGeom>
          <a:solidFill>
            <a:srgbClr val="ecd882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ut mae darganfod cyfaint prism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19051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yfaint y prism yw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rwynebedd y trawsdoriad x hy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3581280"/>
            <a:ext cx="1828800" cy="2362320"/>
          </a:xfrm>
          <a:prstGeom prst="cube">
            <a:avLst>
              <a:gd name="adj" fmla="val 23439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00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hy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828440" y="4952880"/>
            <a:ext cx="304920" cy="1371600"/>
          </a:xfrm>
          <a:prstGeom prst="line">
            <a:avLst/>
          </a:prstGeom>
          <a:ln w="414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6248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rwynebedd = lled x uch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19720" y="43434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yfaint = hyd x lled x uch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3880" y="26668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Tahoma"/>
              </a:rPr>
              <a:t>Ciwboid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90720" y="6858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ee.1 Darganfyddwch cyfaint y siap canlyno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0798200">
            <a:off x="837720" y="2208960"/>
            <a:ext cx="2210040" cy="114300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1752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1905120"/>
            <a:ext cx="426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yfaint = hyd x lled x uch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= 8 x 6 x 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= 144cm</a:t>
            </a:r>
            <a:r>
              <a:rPr b="0" lang="en-GB" sz="2400" spc="-1" strike="noStrike" baseline="30000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295280" y="5335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58c"/>
                </a:solidFill>
                <a:latin typeface="Tahoma"/>
              </a:rPr>
              <a:t>Prism Trionglog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057400"/>
            <a:ext cx="4191120" cy="2133720"/>
          </a:xfrm>
          <a:prstGeom prst="triangle">
            <a:avLst>
              <a:gd name="adj" fmla="val 50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0" y="2286000"/>
            <a:ext cx="0" cy="1752480"/>
          </a:xfrm>
          <a:prstGeom prst="line">
            <a:avLst/>
          </a:prstGeom>
          <a:ln w="158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uch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781200">
            <a:off x="1752120" y="4190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i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19720" y="41911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hy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3733920"/>
            <a:ext cx="3505320" cy="838080"/>
          </a:xfrm>
          <a:prstGeom prst="line">
            <a:avLst/>
          </a:prstGeom>
          <a:ln w="158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419360" y="4114800"/>
            <a:ext cx="152280" cy="380880"/>
          </a:xfrm>
          <a:prstGeom prst="line">
            <a:avLst/>
          </a:prstGeom>
          <a:ln w="158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1752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yfaint =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943600" y="1752480"/>
                <a:ext cx="27432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il x uchder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hy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8600" y="2057400"/>
            <a:ext cx="4191120" cy="2133720"/>
          </a:xfrm>
          <a:prstGeom prst="triangle">
            <a:avLst>
              <a:gd name="adj" fmla="val 50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286000"/>
            <a:ext cx="0" cy="1752480"/>
          </a:xfrm>
          <a:prstGeom prst="line">
            <a:avLst/>
          </a:prstGeom>
          <a:ln w="158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781200">
            <a:off x="1752120" y="4190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4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4191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3733920"/>
            <a:ext cx="3505320" cy="838080"/>
          </a:xfrm>
          <a:prstGeom prst="line">
            <a:avLst/>
          </a:prstGeom>
          <a:ln w="158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4419360" y="4114800"/>
            <a:ext cx="152280" cy="380880"/>
          </a:xfrm>
          <a:prstGeom prst="line">
            <a:avLst/>
          </a:prstGeom>
          <a:ln w="158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6858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ee.2 Darganfyddwch cyfaint y prism trionglog hy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1905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yfaint = (sail x uchder) x hy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38680" y="2362320"/>
            <a:ext cx="18288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0080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281952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 (14 x 8) x 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3276720"/>
            <a:ext cx="10670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38862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 112 x 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638680" y="4419720"/>
            <a:ext cx="4572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495288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 56 x 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 280m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094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58c"/>
                </a:solidFill>
                <a:latin typeface="Tahoma"/>
              </a:rPr>
              <a:t>Cyfaint Silind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6135200">
            <a:off x="838080" y="2209320"/>
            <a:ext cx="2057400" cy="2362320"/>
          </a:xfrm>
          <a:prstGeom prst="can">
            <a:avLst>
              <a:gd name="adj" fmla="val 50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3352680"/>
            <a:ext cx="609480" cy="533520"/>
          </a:xfrm>
          <a:prstGeom prst="line">
            <a:avLst/>
          </a:prstGeom>
          <a:ln w="158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adiw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76520" y="4724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hy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4572000"/>
            <a:ext cx="1371600" cy="0"/>
          </a:xfrm>
          <a:prstGeom prst="line">
            <a:avLst/>
          </a:prstGeom>
          <a:ln w="158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22860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yfaint = </a:t>
            </a:r>
            <a:r>
              <a:rPr b="0" lang="en-GB" sz="32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x r</a:t>
            </a:r>
            <a:r>
              <a:rPr b="0" lang="en-GB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x hy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rot="16135200">
            <a:off x="838080" y="2209320"/>
            <a:ext cx="2057400" cy="2362320"/>
          </a:xfrm>
          <a:prstGeom prst="can">
            <a:avLst>
              <a:gd name="adj" fmla="val 50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3352680"/>
            <a:ext cx="609480" cy="533520"/>
          </a:xfrm>
          <a:prstGeom prst="line">
            <a:avLst/>
          </a:prstGeom>
          <a:ln w="158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76520" y="4724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2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4572000"/>
            <a:ext cx="1371600" cy="0"/>
          </a:xfrm>
          <a:prstGeom prst="line">
            <a:avLst/>
          </a:prstGeom>
          <a:ln w="158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2286000"/>
            <a:ext cx="42670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yfaint = </a:t>
            </a:r>
            <a:r>
              <a:rPr b="0" lang="en-GB" sz="32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x r</a:t>
            </a:r>
            <a:r>
              <a:rPr b="0" lang="en-GB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x hy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= 3.14 x 5</a:t>
            </a:r>
            <a:r>
              <a:rPr b="0" lang="en-GB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x 1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= 3.14 x 5 x 5 x 1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= 942 cm</a:t>
            </a:r>
            <a:r>
              <a:rPr b="0" lang="en-GB" sz="2400" spc="-1" strike="noStrike" baseline="30000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ee.3 Beth yw cyfaint y silindr canlynol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295280" y="533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Ymarfer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– Darganfyddwch cyfaint y canlyno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6135200">
            <a:off x="757080" y="2290320"/>
            <a:ext cx="1600200" cy="1752480"/>
          </a:xfrm>
          <a:prstGeom prst="can">
            <a:avLst>
              <a:gd name="adj" fmla="val 50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3352680"/>
            <a:ext cx="228600" cy="228600"/>
          </a:xfrm>
          <a:prstGeom prst="line">
            <a:avLst/>
          </a:prstGeom>
          <a:ln w="158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19320" y="41148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4114800"/>
            <a:ext cx="914400" cy="0"/>
          </a:xfrm>
          <a:prstGeom prst="line">
            <a:avLst/>
          </a:prstGeom>
          <a:ln w="158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71800" y="1600200"/>
            <a:ext cx="4191120" cy="2133720"/>
          </a:xfrm>
          <a:prstGeom prst="triangle">
            <a:avLst>
              <a:gd name="adj" fmla="val 50000"/>
            </a:avLst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29200" y="1828800"/>
            <a:ext cx="0" cy="1752480"/>
          </a:xfrm>
          <a:prstGeom prst="line">
            <a:avLst/>
          </a:prstGeom>
          <a:ln w="158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4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781200">
            <a:off x="4495320" y="3733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3733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276720"/>
            <a:ext cx="3505320" cy="838080"/>
          </a:xfrm>
          <a:prstGeom prst="line">
            <a:avLst/>
          </a:prstGeom>
          <a:ln w="158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162560" y="3657600"/>
            <a:ext cx="152280" cy="380880"/>
          </a:xfrm>
          <a:prstGeom prst="line">
            <a:avLst/>
          </a:prstGeom>
          <a:ln w="158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0798200">
            <a:off x="837720" y="5104800"/>
            <a:ext cx="2210040" cy="1143000"/>
          </a:xfrm>
          <a:prstGeom prst="cube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5334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3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4648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7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9520" y="5943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3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0798200">
            <a:off x="4952160" y="4876200"/>
            <a:ext cx="2210040" cy="1523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f89f7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086600" y="5257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7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9132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010280" y="6095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3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1828800"/>
            <a:ext cx="380880" cy="581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9880" y="1447920"/>
            <a:ext cx="381240" cy="581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4648320"/>
            <a:ext cx="381240" cy="581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48320" y="4419720"/>
            <a:ext cx="380880" cy="581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08:01:37Z</dcterms:created>
  <dc:creator>RM</dc:creator>
  <dc:description/>
  <dc:language>en-US</dc:language>
  <cp:lastModifiedBy>RM</cp:lastModifiedBy>
  <dcterms:modified xsi:type="dcterms:W3CDTF">2002-10-31T09:19:09Z</dcterms:modified>
  <cp:revision>9</cp:revision>
  <dc:subject/>
  <dc:title>Cyfaint Prism</dc:title>
</cp:coreProperties>
</file>